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8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49.wmf" ContentType="image/x-wmf"/>
  <Override PartName="/ppt/media/image100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1.wmf" ContentType="image/x-wmf"/>
  <Override PartName="/ppt/media/image7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1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2.wmf" ContentType="image/x-wmf"/>
  <Override PartName="/ppt/media/image102.jpeg" ContentType="image/jpeg"/>
  <Override PartName="/ppt/media/image17.wmf" ContentType="image/x-wmf"/>
  <Override PartName="/ppt/media/image82.wmf" ContentType="image/x-wmf"/>
  <Override PartName="/ppt/media/image52.wmf" ContentType="image/x-wmf"/>
  <Override PartName="/ppt/media/image103.jpeg" ContentType="image/jpeg"/>
  <Override PartName="/ppt/media/image12.png" ContentType="image/png"/>
  <Override PartName="/ppt/media/image40.wmf" ContentType="image/x-wmf"/>
  <Override PartName="/ppt/media/image6.png" ContentType="image/png"/>
  <Override PartName="/ppt/media/image15.wmf" ContentType="image/x-wmf"/>
  <Override PartName="/ppt/media/image3.wmf" ContentType="image/x-wmf"/>
  <Override PartName="/ppt/media/image80.wmf" ContentType="image/x-wmf"/>
  <Override PartName="/ppt/media/image51.wmf" ContentType="image/x-wmf"/>
  <Override PartName="/ppt/media/image29.png" ContentType="image/png"/>
  <Override PartName="/ppt/media/image11.png" ContentType="image/png"/>
  <Override PartName="/ppt/media/image79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2.png" ContentType="image/png"/>
  <Override PartName="/ppt/media/image73.wmf" ContentType="image/x-wmf"/>
  <Override PartName="/ppt/media/image74.wmf" ContentType="image/x-wmf"/>
  <Override PartName="/ppt/media/image4.png" ContentType="image/png"/>
  <Override PartName="/ppt/media/image75.wmf" ContentType="image/x-wmf"/>
  <Override PartName="/ppt/media/image5.png" ContentType="image/png"/>
  <Override PartName="/ppt/media/image101.wmf" ContentType="image/x-wmf"/>
  <Override PartName="/ppt/media/image94.wmf" ContentType="image/x-wmf"/>
  <Override PartName="/ppt/media/image64.wmf" ContentType="image/x-wmf"/>
  <Override PartName="/ppt/media/image24.png" ContentType="image/png"/>
  <Override PartName="/ppt/media/image99.wmf" ContentType="image/x-wmf"/>
  <Override PartName="/ppt/media/image62.wmf" ContentType="image/x-wmf"/>
  <Override PartName="/ppt/media/image22.png" ContentType="image/png"/>
  <Override PartName="/ppt/media/image87.wmf" ContentType="image/x-wmf"/>
  <Override PartName="/ppt/media/image50.wmf" ContentType="image/x-wmf"/>
  <Override PartName="/ppt/media/image63.wmf" ContentType="image/x-wmf"/>
  <Override PartName="/ppt/media/image23.png" ContentType="image/png"/>
  <Override PartName="/ppt/media/image98.wmf" ContentType="image/x-wmf"/>
  <Override PartName="/ppt/media/image61.wmf" ContentType="image/x-wmf"/>
  <Override PartName="/ppt/media/image86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95.wmf" ContentType="image/x-wmf"/>
  <Override PartName="/ppt/media/image92.wmf" ContentType="image/x-wmf"/>
  <Override PartName="/ppt/media/image88.wmf" ContentType="image/x-wmf"/>
  <Override PartName="/ppt/media/image76.wmf" ContentType="image/x-wmf"/>
  <Override PartName="/ppt/media/image77.wmf" ContentType="image/x-wmf"/>
  <Override PartName="/ppt/media/image90.wmf" ContentType="image/x-wmf"/>
  <Override PartName="/ppt/media/image25.wmf" ContentType="image/x-wmf"/>
  <Override PartName="/ppt/media/image21.png" ContentType="image/png"/>
  <Override PartName="/ppt/media/image89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6.wmf" ContentType="image/x-wmf"/>
  <Override PartName="/ppt/media/image81.wmf" ContentType="image/x-wmf"/>
  <Override PartName="/ppt/media/image91.wmf" ContentType="image/x-wmf"/>
  <Override PartName="/ppt/media/image26.wmf" ContentType="image/x-wmf"/>
  <Override PartName="/ppt/media/image33.wmf" ContentType="image/x-wmf"/>
  <Override PartName="/ppt/media/image28.wmf" ContentType="image/x-wmf"/>
  <Override PartName="/ppt/media/image93.wmf" ContentType="image/x-wmf"/>
  <Override PartName="/ppt/media/image14.wmf" ContentType="image/x-wmf"/>
  <Override PartName="/ppt/media/image10.png" ContentType="image/png"/>
  <Override PartName="/ppt/media/image7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CD07-3702-4256-A079-4114DBC4C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FA66-9E97-4E98-BF81-7857D28B9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EB36-F34C-4DC0-95D3-0BC63663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3480-23C1-4A55-A19E-5DF028DBD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4543-BF1B-4EC3-B0D5-5377E0C4C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03BA-0A4F-4E19-92A5-D0A25C799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47CE-CCB2-45A1-8FA0-95FF962A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F16C-B764-43DB-BC12-96519D3E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7799-954C-4029-B8A2-44B224CA5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7889-201D-491F-991D-E244DF9C9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EB4-3A93-4CBC-ABE4-3B25B51F4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DF6D-D6BB-4D47-9574-4A1BB40B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69D1-869D-4182-B0ED-A45364EB6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DDC1-11D9-4724-8D6F-6DC9D297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A42F-B863-4851-88DF-8431393B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D473-8184-4AE6-81A4-76B0927B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CD20-575C-48CE-BE51-D163CB3E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4DE0-FF76-4817-BACF-13AD1956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292B-845E-4D29-9D0C-8EF53F230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5971-E335-46B4-A639-F12AAC34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115E-2FC2-4550-91FA-E0D661AC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D62-C4DE-454A-9AD5-3B02AFD5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7D53-2B26-4330-B01F-5D98BC9D4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93E6-8CB0-41A5-A757-E28ECB8D0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962D-FD02-4CA6-A139-E5D2FFD73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8155-9028-4736-9499-D2676D52D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3A62-6207-4E43-94B3-64FD1D05C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ACB5-A434-49CF-9E00-3568102D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AFEC-6BF7-4A13-B0B0-92833860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5E35-AB59-4E5F-86B3-4E9F03B49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F59C-C07F-402E-A897-DE992633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38CF-2726-421B-9F20-E704D757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AA08-978C-43E1-A1A1-7468E8DE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351E-D25A-4AA2-A07B-966BBF263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A292-EA33-438F-A936-C1AE4930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B371-45DC-4B6C-8FEE-B74E23996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FC5E-9C9B-42F3-B2D1-E977F1557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5C17-8343-4E23-85D3-DA8FA7192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83BD-FD06-4EC1-BE7B-380F182D3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0DE0-238D-4D9A-82BD-2E4A07519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6200-F654-468F-BC6D-0908ECCE8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C791-C60D-4E45-86C7-9DAAE532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C937-12D9-429F-8527-178185E6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BC1-1B8E-4AC1-BC3A-09C5261CC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78DC-FF1F-4018-8AA0-DEE82FA2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B806-AB12-4FF0-9934-6ED430DE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776-F48B-4900-A3C5-13717DCF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ED22-0FA2-4C50-9DFF-EB13C733D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1645-2BF2-4233-B2D1-4F354BEE1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7D2D-B73E-424D-9478-E49F621C4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87A7-0ED7-494A-B419-8C8980F9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28E2-B228-434E-A458-A9C6F8A4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C284-83E6-469C-8223-938ACF3B9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B0C8-E530-4FD9-A06C-66D17F958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E7D-3FF8-42C6-B3BB-68D09D22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6DCE-5413-40D9-9588-AA722F96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FDDF-A075-4072-A043-F3078BDF0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4807-0730-43DC-A4A7-5EF6929F8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2EC4-674F-4FEA-8E7C-3B08A7440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8A9C-7DB7-4B5C-AC7F-E4DCCB9D5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CF59-092F-43CC-96EB-C8871C85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9C78-3240-48C7-A053-6FC039C5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F422-BE70-4730-9DFF-A430D121C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4053-EDCA-417A-9D88-A71721526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9CDB-26C2-4CE1-AB25-6591D7268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F0D5-F652-4CBF-BBCD-E0509545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534-F320-4C2F-B485-873B4780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1696-56A9-4634-B934-9BB538DA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8016-3624-4945-9829-7F3E5FFC0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866A-2A2B-45A2-BFAB-C92E6027D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4C53-5C66-4DF8-92A8-A4DE35EB2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1 - </a:t>
            </a:r>
            <a:fld id="{84982665-22D3-42F1-BE1C-DA6E6F2E6BA4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1 - </a:t>
            </a:r>
            <a:fld id="{C55A4A0B-D019-4FB3-86B9-08D5D65947B7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3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3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8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8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7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7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8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8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7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7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6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6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Graphs, Functions and Mode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icture 8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–5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–5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371600" y="2025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-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-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137160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76320"/>
            <a:ext cx="76201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total of $7000 is deposited into two simple interest accounts. On one account the annual simple interest rate of 5.5% and on the second account the annual simple interest rate is 7%. The amount of interest earned for 1 year was $405. How much was invested in each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represent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"/>
          <p:cNvPicPr/>
          <p:nvPr/>
        </p:nvPicPr>
        <p:blipFill>
          <a:blip r:embed="rId2"/>
          <a:stretch/>
        </p:blipFill>
        <p:spPr>
          <a:xfrm>
            <a:off x="50292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/>
          <p:cNvPicPr/>
          <p:nvPr/>
        </p:nvPicPr>
        <p:blipFill>
          <a:blip r:embed="rId3"/>
          <a:stretch/>
        </p:blipFill>
        <p:spPr>
          <a:xfrm>
            <a:off x="1066680" y="1143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"/>
          <p:cNvPicPr/>
          <p:nvPr/>
        </p:nvPicPr>
        <p:blipFill>
          <a:blip r:embed="rId4"/>
          <a:stretch/>
        </p:blipFill>
        <p:spPr>
          <a:xfrm>
            <a:off x="106668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"/>
          <p:cNvPicPr/>
          <p:nvPr/>
        </p:nvPicPr>
        <p:blipFill>
          <a:blip r:embed="rId5"/>
          <a:stretch/>
        </p:blipFill>
        <p:spPr>
          <a:xfrm>
            <a:off x="5029200" y="1143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represent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50292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1066680" y="1143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4"/>
          <a:stretch/>
        </p:blipFill>
        <p:spPr>
          <a:xfrm>
            <a:off x="106668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5"/>
          <a:stretch/>
        </p:blipFill>
        <p:spPr>
          <a:xfrm>
            <a:off x="5029200" y="1143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12" name="Oval 13"/>
          <p:cNvSpPr/>
          <p:nvPr/>
        </p:nvSpPr>
        <p:spPr>
          <a:xfrm>
            <a:off x="4114800" y="39625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omain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11"/>
          <p:cNvGraphicFramePr/>
          <p:nvPr/>
        </p:nvGraphicFramePr>
        <p:xfrm>
          <a:off x="5257800" y="203040"/>
          <a:ext cx="198756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03040"/>
                    <a:ext cx="19875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2"/>
          <p:cNvGraphicFramePr/>
          <p:nvPr/>
        </p:nvGraphicFramePr>
        <p:xfrm>
          <a:off x="2133720" y="1981080"/>
          <a:ext cx="267156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981080"/>
                    <a:ext cx="26715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3"/>
          <p:cNvGraphicFramePr/>
          <p:nvPr/>
        </p:nvGraphicFramePr>
        <p:xfrm>
          <a:off x="2146320" y="3232080"/>
          <a:ext cx="234648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6320" y="3232080"/>
                    <a:ext cx="23464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4"/>
          <p:cNvGraphicFramePr/>
          <p:nvPr/>
        </p:nvGraphicFramePr>
        <p:xfrm>
          <a:off x="2146320" y="5607000"/>
          <a:ext cx="37796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6320" y="5607000"/>
                    <a:ext cx="3779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omain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9"/>
          <p:cNvGraphicFramePr/>
          <p:nvPr/>
        </p:nvGraphicFramePr>
        <p:xfrm>
          <a:off x="5257800" y="203040"/>
          <a:ext cx="198756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03040"/>
                    <a:ext cx="19875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0"/>
          <p:cNvGraphicFramePr/>
          <p:nvPr/>
        </p:nvGraphicFramePr>
        <p:xfrm>
          <a:off x="2146320" y="1995480"/>
          <a:ext cx="267192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6320" y="1995480"/>
                    <a:ext cx="2671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1"/>
          <p:cNvGraphicFramePr/>
          <p:nvPr/>
        </p:nvGraphicFramePr>
        <p:xfrm>
          <a:off x="2146320" y="3232080"/>
          <a:ext cx="234648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6320" y="3232080"/>
                    <a:ext cx="23464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2"/>
          <p:cNvGraphicFramePr/>
          <p:nvPr/>
        </p:nvGraphicFramePr>
        <p:xfrm>
          <a:off x="2146320" y="5607000"/>
          <a:ext cx="37796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6320" y="5607000"/>
                    <a:ext cx="3779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Oval 13"/>
          <p:cNvSpPr/>
          <p:nvPr/>
        </p:nvSpPr>
        <p:spPr>
          <a:xfrm>
            <a:off x="1384200" y="31748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omain of f(x)=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3x-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13"/>
          <p:cNvGraphicFramePr/>
          <p:nvPr/>
        </p:nvGraphicFramePr>
        <p:xfrm>
          <a:off x="2133720" y="3276720"/>
          <a:ext cx="23461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276720"/>
                    <a:ext cx="23461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4"/>
          <p:cNvGraphicFramePr/>
          <p:nvPr/>
        </p:nvGraphicFramePr>
        <p:xfrm>
          <a:off x="2146320" y="5607000"/>
          <a:ext cx="377964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6320" y="5607000"/>
                    <a:ext cx="3779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13"/>
          <p:cNvSpPr/>
          <p:nvPr/>
        </p:nvSpPr>
        <p:spPr>
          <a:xfrm>
            <a:off x="2133720" y="19051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-∞, ∞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1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Graphs, Functions,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nd Model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22860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Functions, Slope,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of Lines and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Equations, Functions, Zeros,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Linear Inequ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awtri_4c UPDATE_color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(-∞, ∞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omain of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1"/>
          <p:cNvGraphicFramePr/>
          <p:nvPr/>
        </p:nvGraphicFramePr>
        <p:xfrm>
          <a:off x="2146320" y="3232080"/>
          <a:ext cx="2346480" cy="4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6320" y="3232080"/>
                    <a:ext cx="23464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2"/>
          <p:cNvGraphicFramePr/>
          <p:nvPr/>
        </p:nvGraphicFramePr>
        <p:xfrm>
          <a:off x="2146320" y="5607000"/>
          <a:ext cx="377964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6320" y="5607000"/>
                    <a:ext cx="3779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Oval 13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5257800" y="457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=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x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which of the following graphs does not represent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"/>
          <p:cNvPicPr/>
          <p:nvPr/>
        </p:nvPicPr>
        <p:blipFill>
          <a:blip r:embed="rId5"/>
          <a:stretch/>
        </p:blipFill>
        <p:spPr>
          <a:xfrm>
            <a:off x="4800600" y="1371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which of the following graphs does not represent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"/>
          <p:cNvPicPr/>
          <p:nvPr/>
        </p:nvPicPr>
        <p:blipFill>
          <a:blip r:embed="rId5"/>
          <a:stretch/>
        </p:blipFill>
        <p:spPr>
          <a:xfrm>
            <a:off x="4800600" y="13716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93" name="Oval 13"/>
          <p:cNvSpPr/>
          <p:nvPr/>
        </p:nvSpPr>
        <p:spPr>
          <a:xfrm>
            <a:off x="533520" y="12952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09480" y="11113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447920" y="2254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increased 32.5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1447920" y="4692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increased 130 cars/y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44792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creased 21.7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increased 26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295280" y="198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’s Used Cars sold 50 cars in 2002. In 2007, they sold 180 cars. Find the average rate of change in cars sold from 2002 to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609480" y="11113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447920" y="2254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increased 32.5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1447920" y="4692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increased 130 cars/y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144792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creased 21.7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increased 26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295280" y="198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’s Used Cars sold 50 cars in 2002. In 2007, they sold 180 cars. Find the average rate of change in cars sold from 2002 to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1397160" y="598176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035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lope of the line containing the points (2, 6) and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11"/>
          <p:cNvGraphicFramePr/>
          <p:nvPr/>
        </p:nvGraphicFramePr>
        <p:xfrm>
          <a:off x="1981080" y="210168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0168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609480" y="1035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lope of the line containing the points (2, 6) and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9"/>
          <p:cNvGraphicFramePr/>
          <p:nvPr/>
        </p:nvGraphicFramePr>
        <p:xfrm>
          <a:off x="1981080" y="210168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0168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Oval 10"/>
          <p:cNvSpPr/>
          <p:nvPr/>
        </p:nvSpPr>
        <p:spPr>
          <a:xfrm>
            <a:off x="1371600" y="347976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1035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1523880" y="120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slope of the line from the given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1"/>
          <p:cNvGraphicFramePr/>
          <p:nvPr/>
        </p:nvGraphicFramePr>
        <p:xfrm>
          <a:off x="1981080" y="210168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0168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Picture 13" descr=""/>
          <p:cNvPicPr/>
          <p:nvPr/>
        </p:nvPicPr>
        <p:blipFill>
          <a:blip r:embed="rId4"/>
          <a:stretch/>
        </p:blipFill>
        <p:spPr>
          <a:xfrm>
            <a:off x="6248520" y="8064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609480" y="1035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5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1523880" y="120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slope of the line from the given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9"/>
          <p:cNvGraphicFramePr/>
          <p:nvPr/>
        </p:nvGraphicFramePr>
        <p:xfrm>
          <a:off x="1981080" y="210168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0168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3" name="Picture 10" descr=""/>
          <p:cNvPicPr/>
          <p:nvPr/>
        </p:nvPicPr>
        <p:blipFill>
          <a:blip r:embed="rId4"/>
          <a:stretch/>
        </p:blipFill>
        <p:spPr>
          <a:xfrm>
            <a:off x="6248520" y="80640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54" name="Oval 11"/>
          <p:cNvSpPr/>
          <p:nvPr/>
        </p:nvSpPr>
        <p:spPr>
          <a:xfrm>
            <a:off x="1397160" y="593100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609480" y="11113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447920" y="2254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6"/>
          <p:cNvSpPr/>
          <p:nvPr/>
        </p:nvSpPr>
        <p:spPr>
          <a:xfrm>
            <a:off x="1447920" y="4692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144792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slope of the line from the given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981080" y="217800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7800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5" name="Picture 13" descr=""/>
          <p:cNvPicPr/>
          <p:nvPr/>
        </p:nvPicPr>
        <p:blipFill>
          <a:blip r:embed="rId4"/>
          <a:stretch/>
        </p:blipFill>
        <p:spPr>
          <a:xfrm>
            <a:off x="6248520" y="9586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represents the graph of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4"/>
          <a:stretch/>
        </p:blipFill>
        <p:spPr>
          <a:xfrm>
            <a:off x="49528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609480" y="11113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447920" y="2254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1447920" y="4692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44792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slope of the line from the given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9"/>
          <p:cNvGraphicFramePr/>
          <p:nvPr/>
        </p:nvGraphicFramePr>
        <p:xfrm>
          <a:off x="1981080" y="217800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7800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6" name="Picture 10" descr=""/>
          <p:cNvPicPr/>
          <p:nvPr/>
        </p:nvPicPr>
        <p:blipFill>
          <a:blip r:embed="rId4"/>
          <a:stretch/>
        </p:blipFill>
        <p:spPr>
          <a:xfrm>
            <a:off x="6248520" y="9586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77" name="Oval 11"/>
          <p:cNvSpPr/>
          <p:nvPr/>
        </p:nvSpPr>
        <p:spPr>
          <a:xfrm>
            <a:off x="1371600" y="47880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609480" y="836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1447920" y="1979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1447920" y="4417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1447920" y="3198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1447920" y="5637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523880" y="2271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intercept of the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11"/>
          <p:cNvGraphicFramePr/>
          <p:nvPr/>
        </p:nvGraphicFramePr>
        <p:xfrm>
          <a:off x="2155680" y="2101680"/>
          <a:ext cx="846360" cy="4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5680" y="2101680"/>
                    <a:ext cx="846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12"/>
          <p:cNvGraphicFramePr/>
          <p:nvPr/>
        </p:nvGraphicFramePr>
        <p:xfrm>
          <a:off x="2100240" y="3062160"/>
          <a:ext cx="1265400" cy="104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00240" y="3062160"/>
                    <a:ext cx="1265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13"/>
          <p:cNvGraphicFramePr/>
          <p:nvPr/>
        </p:nvGraphicFramePr>
        <p:xfrm>
          <a:off x="2100240" y="5438880"/>
          <a:ext cx="126540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0240" y="5438880"/>
                    <a:ext cx="12654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15"/>
          <p:cNvGraphicFramePr/>
          <p:nvPr/>
        </p:nvGraphicFramePr>
        <p:xfrm>
          <a:off x="2058840" y="4416480"/>
          <a:ext cx="10382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8840" y="4416480"/>
                    <a:ext cx="1038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609480" y="836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447920" y="1979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1447920" y="4417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1447920" y="3198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1447920" y="5637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23880" y="2271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intercept of the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11"/>
          <p:cNvGraphicFramePr/>
          <p:nvPr/>
        </p:nvGraphicFramePr>
        <p:xfrm>
          <a:off x="2155680" y="2101680"/>
          <a:ext cx="846360" cy="4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5680" y="2101680"/>
                    <a:ext cx="846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12"/>
          <p:cNvGraphicFramePr/>
          <p:nvPr/>
        </p:nvGraphicFramePr>
        <p:xfrm>
          <a:off x="2100240" y="3062160"/>
          <a:ext cx="1265400" cy="104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00240" y="3062160"/>
                    <a:ext cx="1265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3"/>
          <p:cNvGraphicFramePr/>
          <p:nvPr/>
        </p:nvGraphicFramePr>
        <p:xfrm>
          <a:off x="2100240" y="5438880"/>
          <a:ext cx="126540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0240" y="5438880"/>
                    <a:ext cx="12654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Oval 14"/>
          <p:cNvSpPr/>
          <p:nvPr/>
        </p:nvSpPr>
        <p:spPr>
          <a:xfrm>
            <a:off x="1371600" y="213192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5"/>
          <p:cNvGraphicFramePr/>
          <p:nvPr/>
        </p:nvGraphicFramePr>
        <p:xfrm>
          <a:off x="2058840" y="4416480"/>
          <a:ext cx="10382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0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8840" y="4416480"/>
                    <a:ext cx="1038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09480" y="88596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447920" y="2028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6"/>
          <p:cNvSpPr/>
          <p:nvPr/>
        </p:nvSpPr>
        <p:spPr>
          <a:xfrm>
            <a:off x="1447920" y="4467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447920" y="3247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1447920" y="56865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1523880" y="2001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equation of the line that passes through (4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and (8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11"/>
          <p:cNvGraphicFramePr/>
          <p:nvPr/>
        </p:nvGraphicFramePr>
        <p:xfrm>
          <a:off x="2114640" y="1924200"/>
          <a:ext cx="182232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1924200"/>
                    <a:ext cx="1822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2"/>
          <p:cNvGraphicFramePr/>
          <p:nvPr/>
        </p:nvGraphicFramePr>
        <p:xfrm>
          <a:off x="2114640" y="3387600"/>
          <a:ext cx="184788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14640" y="3387600"/>
                    <a:ext cx="1847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3"/>
          <p:cNvGraphicFramePr/>
          <p:nvPr/>
        </p:nvGraphicFramePr>
        <p:xfrm>
          <a:off x="2114640" y="5537160"/>
          <a:ext cx="159048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14640" y="5537160"/>
                    <a:ext cx="15904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15"/>
          <p:cNvGraphicFramePr/>
          <p:nvPr/>
        </p:nvGraphicFramePr>
        <p:xfrm>
          <a:off x="2114640" y="4665600"/>
          <a:ext cx="17510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4640" y="4665600"/>
                    <a:ext cx="1751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609480" y="88596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447920" y="2028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1447920" y="4467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1447920" y="3247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1447920" y="56865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523880" y="2001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equation of the line that passes through (4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and (8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1"/>
          <p:cNvGraphicFramePr/>
          <p:nvPr/>
        </p:nvGraphicFramePr>
        <p:xfrm>
          <a:off x="2114640" y="1924200"/>
          <a:ext cx="182232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1924200"/>
                    <a:ext cx="1822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12"/>
          <p:cNvGraphicFramePr/>
          <p:nvPr/>
        </p:nvGraphicFramePr>
        <p:xfrm>
          <a:off x="2114640" y="3387600"/>
          <a:ext cx="184788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14640" y="3387600"/>
                    <a:ext cx="1847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13"/>
          <p:cNvGraphicFramePr/>
          <p:nvPr/>
        </p:nvGraphicFramePr>
        <p:xfrm>
          <a:off x="2114640" y="5537160"/>
          <a:ext cx="159048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0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14640" y="5537160"/>
                    <a:ext cx="15904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Oval 14"/>
          <p:cNvSpPr/>
          <p:nvPr/>
        </p:nvSpPr>
        <p:spPr>
          <a:xfrm>
            <a:off x="1371600" y="21812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15"/>
          <p:cNvGraphicFramePr/>
          <p:nvPr/>
        </p:nvGraphicFramePr>
        <p:xfrm>
          <a:off x="2114640" y="4665600"/>
          <a:ext cx="17510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4640" y="4665600"/>
                    <a:ext cx="1751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609480" y="809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447920" y="195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1447920" y="4390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1447920" y="3171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1447920" y="5610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1371600" y="2761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the equation of the line containing the point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) and parallel to the line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11"/>
          <p:cNvGraphicFramePr/>
          <p:nvPr/>
        </p:nvGraphicFramePr>
        <p:xfrm>
          <a:off x="2166840" y="1847880"/>
          <a:ext cx="166068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6840" y="1847880"/>
                    <a:ext cx="16606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12"/>
          <p:cNvGraphicFramePr/>
          <p:nvPr/>
        </p:nvGraphicFramePr>
        <p:xfrm>
          <a:off x="2166840" y="3084480"/>
          <a:ext cx="168588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5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6840" y="3084480"/>
                    <a:ext cx="16858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3"/>
          <p:cNvGraphicFramePr/>
          <p:nvPr/>
        </p:nvGraphicFramePr>
        <p:xfrm>
          <a:off x="2166840" y="5460840"/>
          <a:ext cx="194796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7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6840" y="5460840"/>
                    <a:ext cx="1947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15"/>
          <p:cNvGraphicFramePr/>
          <p:nvPr/>
        </p:nvGraphicFramePr>
        <p:xfrm>
          <a:off x="2166840" y="4362480"/>
          <a:ext cx="191304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59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66840" y="4362480"/>
                    <a:ext cx="1913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609480" y="809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1447920" y="195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6"/>
          <p:cNvSpPr/>
          <p:nvPr/>
        </p:nvSpPr>
        <p:spPr>
          <a:xfrm>
            <a:off x="1447920" y="4390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447920" y="3171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1447920" y="5610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1371600" y="2761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the equation of the line containing the point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) and parallel to the line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11"/>
          <p:cNvGraphicFramePr/>
          <p:nvPr/>
        </p:nvGraphicFramePr>
        <p:xfrm>
          <a:off x="2166840" y="1847880"/>
          <a:ext cx="166068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6840" y="1847880"/>
                    <a:ext cx="16606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2"/>
          <p:cNvGraphicFramePr/>
          <p:nvPr/>
        </p:nvGraphicFramePr>
        <p:xfrm>
          <a:off x="2166840" y="3084480"/>
          <a:ext cx="168588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6840" y="3084480"/>
                    <a:ext cx="16858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3"/>
          <p:cNvGraphicFramePr/>
          <p:nvPr/>
        </p:nvGraphicFramePr>
        <p:xfrm>
          <a:off x="2166840" y="5460840"/>
          <a:ext cx="194796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3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6840" y="5460840"/>
                    <a:ext cx="1947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4"/>
          <p:cNvGraphicFramePr/>
          <p:nvPr/>
        </p:nvGraphicFramePr>
        <p:xfrm>
          <a:off x="2166840" y="4362480"/>
          <a:ext cx="191304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5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66840" y="4362480"/>
                    <a:ext cx="1913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Oval 15"/>
          <p:cNvSpPr/>
          <p:nvPr/>
        </p:nvSpPr>
        <p:spPr>
          <a:xfrm>
            <a:off x="1371600" y="454356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609480" y="9586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parallel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no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erpendicular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1371600" y="272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termine the relationship between the pair of lines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Object 17"/>
          <p:cNvGraphicFramePr/>
          <p:nvPr/>
        </p:nvGraphicFramePr>
        <p:xfrm>
          <a:off x="2514600" y="838080"/>
          <a:ext cx="3898800" cy="4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6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838080"/>
                    <a:ext cx="3898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609480" y="9586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parallel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5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no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erpendicular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371600" y="272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termine the relationship between the pair of lines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9"/>
          <p:cNvGraphicFramePr/>
          <p:nvPr/>
        </p:nvGraphicFramePr>
        <p:xfrm>
          <a:off x="2514600" y="838080"/>
          <a:ext cx="3898800" cy="4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838080"/>
                    <a:ext cx="3898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Oval 10"/>
          <p:cNvSpPr/>
          <p:nvPr/>
        </p:nvSpPr>
        <p:spPr>
          <a:xfrm>
            <a:off x="1384200" y="34164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609480" y="81288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447920" y="1955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1447920" y="4394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1447920" y="31748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1447920" y="5613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1523880" y="2030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lope of the graph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12"/>
          <p:cNvGraphicFramePr/>
          <p:nvPr/>
        </p:nvGraphicFramePr>
        <p:xfrm>
          <a:off x="2209680" y="3098880"/>
          <a:ext cx="35748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098880"/>
                    <a:ext cx="3574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13"/>
          <p:cNvGraphicFramePr/>
          <p:nvPr/>
        </p:nvGraphicFramePr>
        <p:xfrm>
          <a:off x="2286000" y="5460840"/>
          <a:ext cx="35712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9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460840"/>
                    <a:ext cx="357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represents the graph of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4"/>
          <a:stretch/>
        </p:blipFill>
        <p:spPr>
          <a:xfrm>
            <a:off x="49528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117" name="Oval 13"/>
          <p:cNvSpPr/>
          <p:nvPr/>
        </p:nvSpPr>
        <p:spPr>
          <a:xfrm>
            <a:off x="4127400" y="40006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609480" y="81288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447920" y="1955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1447920" y="4394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447920" y="31748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1447920" y="5613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1523880" y="2030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lope of the graph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11"/>
          <p:cNvGraphicFramePr/>
          <p:nvPr/>
        </p:nvGraphicFramePr>
        <p:xfrm>
          <a:off x="2209680" y="3098880"/>
          <a:ext cx="35748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098880"/>
                    <a:ext cx="3574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12"/>
          <p:cNvGraphicFramePr/>
          <p:nvPr/>
        </p:nvGraphicFramePr>
        <p:xfrm>
          <a:off x="2286000" y="5460840"/>
          <a:ext cx="35712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460840"/>
                    <a:ext cx="357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Oval 13"/>
          <p:cNvSpPr/>
          <p:nvPr/>
        </p:nvSpPr>
        <p:spPr>
          <a:xfrm>
            <a:off x="1371600" y="325116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609480" y="42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1523880" y="3459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8 = 8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447920" y="2022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7"/>
          <p:cNvSpPr/>
          <p:nvPr/>
        </p:nvSpPr>
        <p:spPr>
          <a:xfrm>
            <a:off x="1447920" y="4156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1447920" y="30891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447920" y="5222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11"/>
          <p:cNvGraphicFramePr/>
          <p:nvPr/>
        </p:nvGraphicFramePr>
        <p:xfrm>
          <a:off x="0" y="19368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36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2"/>
          <p:cNvGraphicFramePr/>
          <p:nvPr/>
        </p:nvGraphicFramePr>
        <p:xfrm>
          <a:off x="2057400" y="2936880"/>
          <a:ext cx="520560" cy="94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936880"/>
                    <a:ext cx="520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13"/>
          <p:cNvGraphicFramePr/>
          <p:nvPr/>
        </p:nvGraphicFramePr>
        <p:xfrm>
          <a:off x="1981080" y="1946160"/>
          <a:ext cx="795600" cy="94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946160"/>
                    <a:ext cx="7956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4"/>
          <p:cNvGraphicFramePr/>
          <p:nvPr/>
        </p:nvGraphicFramePr>
        <p:xfrm>
          <a:off x="2133720" y="5146560"/>
          <a:ext cx="520560" cy="94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5146560"/>
                    <a:ext cx="520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15"/>
          <p:cNvGraphicFramePr/>
          <p:nvPr/>
        </p:nvGraphicFramePr>
        <p:xfrm>
          <a:off x="2133720" y="4003560"/>
          <a:ext cx="366480" cy="949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0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4003560"/>
                    <a:ext cx="366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09480" y="42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523880" y="3459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8 = 8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47920" y="2022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7"/>
          <p:cNvSpPr/>
          <p:nvPr/>
        </p:nvSpPr>
        <p:spPr>
          <a:xfrm>
            <a:off x="1447920" y="4156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1447920" y="30891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1447920" y="5222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Object 11"/>
          <p:cNvGraphicFramePr/>
          <p:nvPr/>
        </p:nvGraphicFramePr>
        <p:xfrm>
          <a:off x="0" y="19368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36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12"/>
          <p:cNvGraphicFramePr/>
          <p:nvPr/>
        </p:nvGraphicFramePr>
        <p:xfrm>
          <a:off x="2057400" y="2936880"/>
          <a:ext cx="520560" cy="94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936880"/>
                    <a:ext cx="520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13"/>
          <p:cNvGraphicFramePr/>
          <p:nvPr/>
        </p:nvGraphicFramePr>
        <p:xfrm>
          <a:off x="1981080" y="1946160"/>
          <a:ext cx="795600" cy="94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946160"/>
                    <a:ext cx="7956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14"/>
          <p:cNvGraphicFramePr/>
          <p:nvPr/>
        </p:nvGraphicFramePr>
        <p:xfrm>
          <a:off x="2133720" y="5146560"/>
          <a:ext cx="520560" cy="94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5146560"/>
                    <a:ext cx="520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15"/>
          <p:cNvGraphicFramePr/>
          <p:nvPr/>
        </p:nvGraphicFramePr>
        <p:xfrm>
          <a:off x="2133720" y="4003560"/>
          <a:ext cx="366480" cy="949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8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4003560"/>
                    <a:ext cx="366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Oval 16"/>
          <p:cNvSpPr/>
          <p:nvPr/>
        </p:nvSpPr>
        <p:spPr>
          <a:xfrm>
            <a:off x="1447920" y="529920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10"/>
          <p:cNvGraphicFramePr/>
          <p:nvPr/>
        </p:nvGraphicFramePr>
        <p:xfrm>
          <a:off x="2124000" y="2948040"/>
          <a:ext cx="77148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2948040"/>
                    <a:ext cx="771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11"/>
          <p:cNvGraphicFramePr/>
          <p:nvPr/>
        </p:nvGraphicFramePr>
        <p:xfrm>
          <a:off x="2073240" y="1957320"/>
          <a:ext cx="61128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3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1957320"/>
                    <a:ext cx="611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12"/>
          <p:cNvGraphicFramePr/>
          <p:nvPr/>
        </p:nvGraphicFramePr>
        <p:xfrm>
          <a:off x="2295360" y="5157720"/>
          <a:ext cx="52416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5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95360" y="5157720"/>
                    <a:ext cx="5241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13"/>
          <p:cNvGraphicFramePr/>
          <p:nvPr/>
        </p:nvGraphicFramePr>
        <p:xfrm>
          <a:off x="2327400" y="4014720"/>
          <a:ext cx="33948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7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27400" y="4014720"/>
                    <a:ext cx="339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16"/>
          <p:cNvGraphicFramePr/>
          <p:nvPr/>
        </p:nvGraphicFramePr>
        <p:xfrm>
          <a:off x="3162240" y="152280"/>
          <a:ext cx="1790640" cy="939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9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62240" y="152280"/>
                    <a:ext cx="17906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10"/>
          <p:cNvGraphicFramePr/>
          <p:nvPr/>
        </p:nvGraphicFramePr>
        <p:xfrm>
          <a:off x="2124000" y="2948040"/>
          <a:ext cx="77148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2948040"/>
                    <a:ext cx="771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11"/>
          <p:cNvGraphicFramePr/>
          <p:nvPr/>
        </p:nvGraphicFramePr>
        <p:xfrm>
          <a:off x="2073240" y="1957320"/>
          <a:ext cx="61128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3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1957320"/>
                    <a:ext cx="611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12"/>
          <p:cNvGraphicFramePr/>
          <p:nvPr/>
        </p:nvGraphicFramePr>
        <p:xfrm>
          <a:off x="2295360" y="5157720"/>
          <a:ext cx="52416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5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95360" y="5157720"/>
                    <a:ext cx="5241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13"/>
          <p:cNvGraphicFramePr/>
          <p:nvPr/>
        </p:nvGraphicFramePr>
        <p:xfrm>
          <a:off x="2327400" y="4014720"/>
          <a:ext cx="33948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7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27400" y="4014720"/>
                    <a:ext cx="339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Oval 14"/>
          <p:cNvSpPr/>
          <p:nvPr/>
        </p:nvSpPr>
        <p:spPr>
          <a:xfrm>
            <a:off x="1447920" y="534204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Object 15"/>
          <p:cNvGraphicFramePr/>
          <p:nvPr/>
        </p:nvGraphicFramePr>
        <p:xfrm>
          <a:off x="3162240" y="152280"/>
          <a:ext cx="1790640" cy="939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00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62240" y="152280"/>
                    <a:ext cx="17906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10"/>
          <p:cNvGraphicFramePr/>
          <p:nvPr/>
        </p:nvGraphicFramePr>
        <p:xfrm>
          <a:off x="2138400" y="2948040"/>
          <a:ext cx="74124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8400" y="2948040"/>
                    <a:ext cx="741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11"/>
          <p:cNvGraphicFramePr/>
          <p:nvPr/>
        </p:nvGraphicFramePr>
        <p:xfrm>
          <a:off x="2392200" y="2217600"/>
          <a:ext cx="27468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4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92200" y="2217600"/>
                    <a:ext cx="2746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12"/>
          <p:cNvGraphicFramePr/>
          <p:nvPr/>
        </p:nvGraphicFramePr>
        <p:xfrm>
          <a:off x="2309760" y="5157720"/>
          <a:ext cx="4939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6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09760" y="5157720"/>
                    <a:ext cx="4939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13"/>
          <p:cNvGraphicFramePr/>
          <p:nvPr/>
        </p:nvGraphicFramePr>
        <p:xfrm>
          <a:off x="2209680" y="4221000"/>
          <a:ext cx="1266840" cy="61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18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4221000"/>
                    <a:ext cx="12668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15"/>
          <p:cNvGraphicFramePr/>
          <p:nvPr/>
        </p:nvGraphicFramePr>
        <p:xfrm>
          <a:off x="3124080" y="152280"/>
          <a:ext cx="2971800" cy="939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0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152280"/>
                    <a:ext cx="29718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10"/>
          <p:cNvGraphicFramePr/>
          <p:nvPr/>
        </p:nvGraphicFramePr>
        <p:xfrm>
          <a:off x="2138400" y="2948040"/>
          <a:ext cx="74124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8400" y="2948040"/>
                    <a:ext cx="741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11"/>
          <p:cNvGraphicFramePr/>
          <p:nvPr/>
        </p:nvGraphicFramePr>
        <p:xfrm>
          <a:off x="2392200" y="2217600"/>
          <a:ext cx="27468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4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92200" y="2217600"/>
                    <a:ext cx="2746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2"/>
          <p:cNvGraphicFramePr/>
          <p:nvPr/>
        </p:nvGraphicFramePr>
        <p:xfrm>
          <a:off x="2309760" y="5157720"/>
          <a:ext cx="4939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6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09760" y="5157720"/>
                    <a:ext cx="4939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3"/>
          <p:cNvGraphicFramePr/>
          <p:nvPr/>
        </p:nvGraphicFramePr>
        <p:xfrm>
          <a:off x="2238480" y="4183200"/>
          <a:ext cx="1266840" cy="676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8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38480" y="4183200"/>
                    <a:ext cx="12668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Oval 14"/>
          <p:cNvSpPr/>
          <p:nvPr/>
        </p:nvSpPr>
        <p:spPr>
          <a:xfrm>
            <a:off x="1397160" y="42750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Object 15"/>
          <p:cNvGraphicFramePr/>
          <p:nvPr/>
        </p:nvGraphicFramePr>
        <p:xfrm>
          <a:off x="3124080" y="152280"/>
          <a:ext cx="2971800" cy="939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1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152280"/>
                    <a:ext cx="29718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No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10"/>
          <p:cNvGraphicFramePr/>
          <p:nvPr/>
        </p:nvGraphicFramePr>
        <p:xfrm>
          <a:off x="2384280" y="3270240"/>
          <a:ext cx="247680" cy="3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3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84280" y="3270240"/>
                    <a:ext cx="247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2247840" y="5157720"/>
          <a:ext cx="61776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7840" y="5157720"/>
                    <a:ext cx="617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13"/>
          <p:cNvGraphicFramePr/>
          <p:nvPr/>
        </p:nvGraphicFramePr>
        <p:xfrm>
          <a:off x="2362320" y="4014720"/>
          <a:ext cx="3697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7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4014720"/>
                    <a:ext cx="3697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5"/>
          <p:cNvGraphicFramePr/>
          <p:nvPr/>
        </p:nvGraphicFramePr>
        <p:xfrm>
          <a:off x="3213000" y="406440"/>
          <a:ext cx="279396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9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13000" y="406440"/>
                    <a:ext cx="2793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No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Object 10"/>
          <p:cNvGraphicFramePr/>
          <p:nvPr/>
        </p:nvGraphicFramePr>
        <p:xfrm>
          <a:off x="2384280" y="3270240"/>
          <a:ext cx="247680" cy="3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84280" y="3270240"/>
                    <a:ext cx="247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11"/>
          <p:cNvGraphicFramePr/>
          <p:nvPr/>
        </p:nvGraphicFramePr>
        <p:xfrm>
          <a:off x="2247840" y="5157720"/>
          <a:ext cx="61776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3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7840" y="5157720"/>
                    <a:ext cx="617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12"/>
          <p:cNvGraphicFramePr/>
          <p:nvPr/>
        </p:nvGraphicFramePr>
        <p:xfrm>
          <a:off x="2362320" y="4014720"/>
          <a:ext cx="3697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5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4014720"/>
                    <a:ext cx="3697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Oval 13"/>
          <p:cNvSpPr/>
          <p:nvPr/>
        </p:nvSpPr>
        <p:spPr>
          <a:xfrm>
            <a:off x="1371600" y="21798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Object 14"/>
          <p:cNvGraphicFramePr/>
          <p:nvPr/>
        </p:nvGraphicFramePr>
        <p:xfrm>
          <a:off x="3213000" y="406440"/>
          <a:ext cx="279396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78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13000" y="406440"/>
                    <a:ext cx="2793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609480" y="67320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523880" y="368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zero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1447920" y="2273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7"/>
          <p:cNvSpPr/>
          <p:nvPr/>
        </p:nvSpPr>
        <p:spPr>
          <a:xfrm>
            <a:off x="1447920" y="44067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1447920" y="3340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1447920" y="5473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Object 11"/>
          <p:cNvGraphicFramePr/>
          <p:nvPr/>
        </p:nvGraphicFramePr>
        <p:xfrm>
          <a:off x="0" y="44460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46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12"/>
          <p:cNvGraphicFramePr/>
          <p:nvPr/>
        </p:nvGraphicFramePr>
        <p:xfrm>
          <a:off x="2262240" y="2273400"/>
          <a:ext cx="32868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2240" y="2273400"/>
                    <a:ext cx="3286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13"/>
          <p:cNvGraphicFramePr/>
          <p:nvPr/>
        </p:nvGraphicFramePr>
        <p:xfrm>
          <a:off x="2262240" y="3263760"/>
          <a:ext cx="3286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2240" y="3263760"/>
                    <a:ext cx="328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2119320" y="4330800"/>
          <a:ext cx="54756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9320" y="4330800"/>
                    <a:ext cx="547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2119320" y="5397480"/>
          <a:ext cx="54756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9320" y="5397480"/>
                    <a:ext cx="547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371600" y="76320"/>
            <a:ext cx="762012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perimeter of a rectangle is 38 m. The length is four more than two times the width. What is the wid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609480" y="67320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1523880" y="368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zero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1447920" y="2273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6"/>
          <p:cNvSpPr/>
          <p:nvPr/>
        </p:nvSpPr>
        <p:spPr>
          <a:xfrm>
            <a:off x="1447920" y="44067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447920" y="3340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1447920" y="5473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Object 9"/>
          <p:cNvGraphicFramePr/>
          <p:nvPr/>
        </p:nvGraphicFramePr>
        <p:xfrm>
          <a:off x="0" y="44460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46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10"/>
          <p:cNvGraphicFramePr/>
          <p:nvPr/>
        </p:nvGraphicFramePr>
        <p:xfrm>
          <a:off x="2262240" y="2273400"/>
          <a:ext cx="32868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2240" y="2273400"/>
                    <a:ext cx="3286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11"/>
          <p:cNvGraphicFramePr/>
          <p:nvPr/>
        </p:nvGraphicFramePr>
        <p:xfrm>
          <a:off x="2262240" y="3263760"/>
          <a:ext cx="3286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0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2240" y="3263760"/>
                    <a:ext cx="328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12"/>
          <p:cNvGraphicFramePr/>
          <p:nvPr/>
        </p:nvGraphicFramePr>
        <p:xfrm>
          <a:off x="2119320" y="4330800"/>
          <a:ext cx="54756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2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9320" y="4330800"/>
                    <a:ext cx="547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13"/>
          <p:cNvGraphicFramePr/>
          <p:nvPr/>
        </p:nvGraphicFramePr>
        <p:xfrm>
          <a:off x="2119320" y="5397480"/>
          <a:ext cx="54756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4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9320" y="5397480"/>
                    <a:ext cx="547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Oval 14"/>
          <p:cNvSpPr/>
          <p:nvPr/>
        </p:nvSpPr>
        <p:spPr>
          <a:xfrm>
            <a:off x="1371600" y="45594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09480" y="44784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1523880" y="371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               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1447920" y="20480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7"/>
          <p:cNvSpPr/>
          <p:nvPr/>
        </p:nvSpPr>
        <p:spPr>
          <a:xfrm>
            <a:off x="1447920" y="4181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1447920" y="3114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1447920" y="52484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Object 11"/>
          <p:cNvGraphicFramePr/>
          <p:nvPr/>
        </p:nvGraphicFramePr>
        <p:xfrm>
          <a:off x="0" y="21924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92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12"/>
          <p:cNvGraphicFramePr/>
          <p:nvPr/>
        </p:nvGraphicFramePr>
        <p:xfrm>
          <a:off x="2087640" y="4029120"/>
          <a:ext cx="1298520" cy="100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7640" y="4029120"/>
                    <a:ext cx="12985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13"/>
          <p:cNvGraphicFramePr/>
          <p:nvPr/>
        </p:nvGraphicFramePr>
        <p:xfrm>
          <a:off x="2087640" y="2886120"/>
          <a:ext cx="1417680" cy="10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87640" y="2886120"/>
                    <a:ext cx="14176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14"/>
          <p:cNvGraphicFramePr/>
          <p:nvPr/>
        </p:nvGraphicFramePr>
        <p:xfrm>
          <a:off x="2692440" y="384120"/>
          <a:ext cx="178272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92440" y="384120"/>
                    <a:ext cx="1782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15"/>
          <p:cNvGraphicFramePr/>
          <p:nvPr/>
        </p:nvGraphicFramePr>
        <p:xfrm>
          <a:off x="2163600" y="5095800"/>
          <a:ext cx="1298880" cy="100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3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3600" y="5095800"/>
                    <a:ext cx="1298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"/>
          <p:cNvSpPr/>
          <p:nvPr/>
        </p:nvSpPr>
        <p:spPr>
          <a:xfrm>
            <a:off x="609480" y="44784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1523880" y="371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               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1447920" y="20480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6"/>
          <p:cNvSpPr/>
          <p:nvPr/>
        </p:nvSpPr>
        <p:spPr>
          <a:xfrm>
            <a:off x="1447920" y="4181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1447920" y="3114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1447920" y="52484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Object 9"/>
          <p:cNvGraphicFramePr/>
          <p:nvPr/>
        </p:nvGraphicFramePr>
        <p:xfrm>
          <a:off x="0" y="21924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92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Object 10"/>
          <p:cNvGraphicFramePr/>
          <p:nvPr/>
        </p:nvGraphicFramePr>
        <p:xfrm>
          <a:off x="2087640" y="4029120"/>
          <a:ext cx="1298520" cy="100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7640" y="4029120"/>
                    <a:ext cx="12985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11"/>
          <p:cNvGraphicFramePr/>
          <p:nvPr/>
        </p:nvGraphicFramePr>
        <p:xfrm>
          <a:off x="2087640" y="2886120"/>
          <a:ext cx="1417680" cy="10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7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87640" y="2886120"/>
                    <a:ext cx="14176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12"/>
          <p:cNvGraphicFramePr/>
          <p:nvPr/>
        </p:nvGraphicFramePr>
        <p:xfrm>
          <a:off x="2692440" y="384120"/>
          <a:ext cx="178272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9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92440" y="384120"/>
                    <a:ext cx="1782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13"/>
          <p:cNvGraphicFramePr/>
          <p:nvPr/>
        </p:nvGraphicFramePr>
        <p:xfrm>
          <a:off x="2163600" y="5095800"/>
          <a:ext cx="1298880" cy="100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1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3600" y="5095800"/>
                    <a:ext cx="1298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Oval 14"/>
          <p:cNvSpPr/>
          <p:nvPr/>
        </p:nvSpPr>
        <p:spPr>
          <a:xfrm>
            <a:off x="1371600" y="433404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= Pr(A – 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7"/>
          <p:cNvSpPr/>
          <p:nvPr/>
        </p:nvSpPr>
        <p:spPr>
          <a:xfrm>
            <a:off x="1447920" y="4159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= A – P – P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"/>
          <p:cNvSpPr/>
          <p:nvPr/>
        </p:nvSpPr>
        <p:spPr>
          <a:xfrm>
            <a:off x="1447920" y="5226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Object 11"/>
          <p:cNvGraphicFramePr/>
          <p:nvPr/>
        </p:nvGraphicFramePr>
        <p:xfrm>
          <a:off x="0" y="196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12"/>
          <p:cNvGraphicFramePr/>
          <p:nvPr/>
        </p:nvGraphicFramePr>
        <p:xfrm>
          <a:off x="2055960" y="4083120"/>
          <a:ext cx="1449360" cy="9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5960" y="4083120"/>
                    <a:ext cx="144936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= Pr(A – 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1447920" y="4159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= A – P – P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1447920" y="5226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Object 11"/>
          <p:cNvGraphicFramePr/>
          <p:nvPr/>
        </p:nvGraphicFramePr>
        <p:xfrm>
          <a:off x="0" y="196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Object 12"/>
          <p:cNvGraphicFramePr/>
          <p:nvPr/>
        </p:nvGraphicFramePr>
        <p:xfrm>
          <a:off x="2055960" y="4083120"/>
          <a:ext cx="1449360" cy="9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6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5960" y="4083120"/>
                    <a:ext cx="144936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Oval 13"/>
          <p:cNvSpPr/>
          <p:nvPr/>
        </p:nvSpPr>
        <p:spPr>
          <a:xfrm>
            <a:off x="1371600" y="4311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1523880" y="1522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of the current in a river is 2 mph. Jay travels 20 mi upstream and then 20 mi downstream in a total of      hr. Find the speed of his bo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1447920" y="3016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7"/>
          <p:cNvSpPr/>
          <p:nvPr/>
        </p:nvSpPr>
        <p:spPr>
          <a:xfrm>
            <a:off x="1447920" y="479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8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1447920" y="3905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7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m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Object 12"/>
          <p:cNvGraphicFramePr/>
          <p:nvPr/>
        </p:nvGraphicFramePr>
        <p:xfrm>
          <a:off x="5651640" y="990720"/>
          <a:ext cx="542880" cy="9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990720"/>
                    <a:ext cx="542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1523880" y="1522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of the current in a river is 2 mph. Jay travels 20 mi upstream and then 20 mi downstream in a total of      hr. Find the speed of his bo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1447920" y="3016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7"/>
          <p:cNvSpPr/>
          <p:nvPr/>
        </p:nvSpPr>
        <p:spPr>
          <a:xfrm>
            <a:off x="1447920" y="479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8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1447920" y="3905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7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m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12"/>
          <p:cNvGraphicFramePr/>
          <p:nvPr/>
        </p:nvGraphicFramePr>
        <p:xfrm>
          <a:off x="5651640" y="990720"/>
          <a:ext cx="542880" cy="9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990720"/>
                    <a:ext cx="542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Oval 13"/>
          <p:cNvSpPr/>
          <p:nvPr/>
        </p:nvSpPr>
        <p:spPr>
          <a:xfrm>
            <a:off x="1409760" y="49086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7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9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13"/>
          <p:cNvGraphicFramePr/>
          <p:nvPr/>
        </p:nvGraphicFramePr>
        <p:xfrm>
          <a:off x="2141640" y="1825560"/>
          <a:ext cx="1439640" cy="11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1640" y="1825560"/>
                    <a:ext cx="1439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14"/>
          <p:cNvGraphicFramePr/>
          <p:nvPr/>
        </p:nvGraphicFramePr>
        <p:xfrm>
          <a:off x="2173320" y="3960720"/>
          <a:ext cx="154296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6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3320" y="3960720"/>
                    <a:ext cx="15429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15"/>
          <p:cNvGraphicFramePr/>
          <p:nvPr/>
        </p:nvGraphicFramePr>
        <p:xfrm>
          <a:off x="2176560" y="5254560"/>
          <a:ext cx="153972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8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6560" y="5254560"/>
                    <a:ext cx="1539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16"/>
          <p:cNvGraphicFramePr/>
          <p:nvPr/>
        </p:nvGraphicFramePr>
        <p:xfrm>
          <a:off x="2200320" y="3121200"/>
          <a:ext cx="1211040" cy="67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0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0320" y="3121200"/>
                    <a:ext cx="1211040" cy="67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18"/>
          <p:cNvGraphicFramePr/>
          <p:nvPr/>
        </p:nvGraphicFramePr>
        <p:xfrm>
          <a:off x="2895480" y="487440"/>
          <a:ext cx="23241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22" name="Object 1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487440"/>
                    <a:ext cx="2324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6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1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10"/>
          <p:cNvGraphicFramePr/>
          <p:nvPr/>
        </p:nvGraphicFramePr>
        <p:xfrm>
          <a:off x="2141640" y="1825560"/>
          <a:ext cx="1439640" cy="11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1640" y="1825560"/>
                    <a:ext cx="1439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11"/>
          <p:cNvGraphicFramePr/>
          <p:nvPr/>
        </p:nvGraphicFramePr>
        <p:xfrm>
          <a:off x="2173320" y="3960720"/>
          <a:ext cx="154296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6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3320" y="3960720"/>
                    <a:ext cx="15429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12"/>
          <p:cNvGraphicFramePr/>
          <p:nvPr/>
        </p:nvGraphicFramePr>
        <p:xfrm>
          <a:off x="2176560" y="5254560"/>
          <a:ext cx="153972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8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6560" y="5254560"/>
                    <a:ext cx="1539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13"/>
          <p:cNvGraphicFramePr/>
          <p:nvPr/>
        </p:nvGraphicFramePr>
        <p:xfrm>
          <a:off x="2225520" y="3157560"/>
          <a:ext cx="1211400" cy="676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40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3157560"/>
                    <a:ext cx="12114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Oval 14"/>
          <p:cNvSpPr/>
          <p:nvPr/>
        </p:nvSpPr>
        <p:spPr>
          <a:xfrm>
            <a:off x="1447920" y="5486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Object 15"/>
          <p:cNvGraphicFramePr/>
          <p:nvPr/>
        </p:nvGraphicFramePr>
        <p:xfrm>
          <a:off x="2895480" y="487440"/>
          <a:ext cx="23241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3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487440"/>
                    <a:ext cx="2324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4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6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7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8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Object 10"/>
          <p:cNvGraphicFramePr/>
          <p:nvPr/>
        </p:nvGraphicFramePr>
        <p:xfrm>
          <a:off x="2200320" y="1825560"/>
          <a:ext cx="1439640" cy="11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0320" y="1825560"/>
                    <a:ext cx="1439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11"/>
          <p:cNvGraphicFramePr/>
          <p:nvPr/>
        </p:nvGraphicFramePr>
        <p:xfrm>
          <a:off x="2239920" y="3960720"/>
          <a:ext cx="140976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7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39920" y="3960720"/>
                    <a:ext cx="14097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8" name="Object 12"/>
          <p:cNvGraphicFramePr/>
          <p:nvPr/>
        </p:nvGraphicFramePr>
        <p:xfrm>
          <a:off x="2225520" y="5248440"/>
          <a:ext cx="1406520" cy="114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9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25520" y="5248440"/>
                    <a:ext cx="14065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13"/>
          <p:cNvGraphicFramePr/>
          <p:nvPr/>
        </p:nvGraphicFramePr>
        <p:xfrm>
          <a:off x="2200320" y="3121200"/>
          <a:ext cx="1211040" cy="67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1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0320" y="3121200"/>
                    <a:ext cx="1211040" cy="67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15"/>
          <p:cNvGraphicFramePr/>
          <p:nvPr/>
        </p:nvGraphicFramePr>
        <p:xfrm>
          <a:off x="2781360" y="487440"/>
          <a:ext cx="25527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3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81360" y="487440"/>
                    <a:ext cx="2552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371600" y="76320"/>
            <a:ext cx="76201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. Simone deposits $8000 in one simple interest account and $2000 in a second simple interest account. The interest rate on the $8000 account is 2% more than the rate on the $2000 account. If the total yearly amount of interest on the two accounts is $578, find the interest rate on each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6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0"/>
          <p:cNvGraphicFramePr/>
          <p:nvPr/>
        </p:nvGraphicFramePr>
        <p:xfrm>
          <a:off x="2200320" y="1825560"/>
          <a:ext cx="1439640" cy="11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0320" y="1825560"/>
                    <a:ext cx="1439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Object 11"/>
          <p:cNvGraphicFramePr/>
          <p:nvPr/>
        </p:nvGraphicFramePr>
        <p:xfrm>
          <a:off x="2239920" y="3960720"/>
          <a:ext cx="140976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7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39920" y="3960720"/>
                    <a:ext cx="14097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12"/>
          <p:cNvGraphicFramePr/>
          <p:nvPr/>
        </p:nvGraphicFramePr>
        <p:xfrm>
          <a:off x="2243160" y="5254560"/>
          <a:ext cx="140652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9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43160" y="5254560"/>
                    <a:ext cx="1406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13"/>
          <p:cNvGraphicFramePr/>
          <p:nvPr/>
        </p:nvGraphicFramePr>
        <p:xfrm>
          <a:off x="2200320" y="3121200"/>
          <a:ext cx="1211040" cy="67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1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0320" y="3121200"/>
                    <a:ext cx="1211040" cy="67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Oval 14"/>
          <p:cNvSpPr/>
          <p:nvPr/>
        </p:nvSpPr>
        <p:spPr>
          <a:xfrm>
            <a:off x="1422360" y="31878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3" name="Object 15"/>
          <p:cNvGraphicFramePr/>
          <p:nvPr/>
        </p:nvGraphicFramePr>
        <p:xfrm>
          <a:off x="2781360" y="487440"/>
          <a:ext cx="25527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4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81360" y="487440"/>
                    <a:ext cx="2552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10"/>
          <p:cNvGraphicFramePr/>
          <p:nvPr/>
        </p:nvGraphicFramePr>
        <p:xfrm>
          <a:off x="2743200" y="411120"/>
          <a:ext cx="249876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411120"/>
                    <a:ext cx="24987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11"/>
          <p:cNvGraphicFramePr/>
          <p:nvPr/>
        </p:nvGraphicFramePr>
        <p:xfrm>
          <a:off x="2149560" y="1828800"/>
          <a:ext cx="1508040" cy="114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9560" y="1828800"/>
                    <a:ext cx="15080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Object 12"/>
          <p:cNvGraphicFramePr/>
          <p:nvPr/>
        </p:nvGraphicFramePr>
        <p:xfrm>
          <a:off x="2225520" y="3962520"/>
          <a:ext cx="1508400" cy="1141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25520" y="3962520"/>
                    <a:ext cx="15084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Object 13"/>
          <p:cNvGraphicFramePr/>
          <p:nvPr/>
        </p:nvGraphicFramePr>
        <p:xfrm>
          <a:off x="2225520" y="5257800"/>
          <a:ext cx="1505160" cy="11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02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5257800"/>
                    <a:ext cx="15051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Object 14"/>
          <p:cNvGraphicFramePr/>
          <p:nvPr/>
        </p:nvGraphicFramePr>
        <p:xfrm>
          <a:off x="2301840" y="3124080"/>
          <a:ext cx="113976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04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01840" y="3124080"/>
                    <a:ext cx="113976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4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5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7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9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0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Object 12"/>
          <p:cNvGraphicFramePr/>
          <p:nvPr/>
        </p:nvGraphicFramePr>
        <p:xfrm>
          <a:off x="2743200" y="411120"/>
          <a:ext cx="249876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6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411120"/>
                    <a:ext cx="24987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7" name="Object 13"/>
          <p:cNvGraphicFramePr/>
          <p:nvPr/>
        </p:nvGraphicFramePr>
        <p:xfrm>
          <a:off x="2149560" y="1828800"/>
          <a:ext cx="1508040" cy="114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8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9560" y="1828800"/>
                    <a:ext cx="15080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14"/>
          <p:cNvGraphicFramePr/>
          <p:nvPr/>
        </p:nvGraphicFramePr>
        <p:xfrm>
          <a:off x="2225520" y="3962520"/>
          <a:ext cx="1508400" cy="1141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25520" y="3962520"/>
                    <a:ext cx="15084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Object 15"/>
          <p:cNvGraphicFramePr/>
          <p:nvPr/>
        </p:nvGraphicFramePr>
        <p:xfrm>
          <a:off x="2225520" y="5257800"/>
          <a:ext cx="1505160" cy="11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2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5257800"/>
                    <a:ext cx="15051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16"/>
          <p:cNvGraphicFramePr/>
          <p:nvPr/>
        </p:nvGraphicFramePr>
        <p:xfrm>
          <a:off x="2301840" y="3124080"/>
          <a:ext cx="113976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4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01840" y="3124080"/>
                    <a:ext cx="113976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Oval 18"/>
          <p:cNvSpPr/>
          <p:nvPr/>
        </p:nvSpPr>
        <p:spPr>
          <a:xfrm>
            <a:off x="1447920" y="5486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4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7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9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12"/>
          <p:cNvGraphicFramePr/>
          <p:nvPr/>
        </p:nvGraphicFramePr>
        <p:xfrm>
          <a:off x="2863800" y="411120"/>
          <a:ext cx="269892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3800" y="411120"/>
                    <a:ext cx="26989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13"/>
          <p:cNvGraphicFramePr/>
          <p:nvPr/>
        </p:nvGraphicFramePr>
        <p:xfrm>
          <a:off x="2182680" y="1752480"/>
          <a:ext cx="1306800" cy="114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2680" y="1752480"/>
                    <a:ext cx="13068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Object 14"/>
          <p:cNvGraphicFramePr/>
          <p:nvPr/>
        </p:nvGraphicFramePr>
        <p:xfrm>
          <a:off x="2182680" y="4038480"/>
          <a:ext cx="1474920" cy="1141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82680" y="4038480"/>
                    <a:ext cx="14749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2" name="Object 15"/>
          <p:cNvGraphicFramePr/>
          <p:nvPr/>
        </p:nvGraphicFramePr>
        <p:xfrm>
          <a:off x="2259000" y="5410080"/>
          <a:ext cx="133812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3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59000" y="5410080"/>
                    <a:ext cx="1338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16"/>
          <p:cNvGraphicFramePr/>
          <p:nvPr/>
        </p:nvGraphicFramePr>
        <p:xfrm>
          <a:off x="2252520" y="2889360"/>
          <a:ext cx="1306800" cy="114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52520" y="2889360"/>
                    <a:ext cx="13068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7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9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12"/>
          <p:cNvGraphicFramePr/>
          <p:nvPr/>
        </p:nvGraphicFramePr>
        <p:xfrm>
          <a:off x="2863800" y="411120"/>
          <a:ext cx="269892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3800" y="411120"/>
                    <a:ext cx="26989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Object 13"/>
          <p:cNvGraphicFramePr/>
          <p:nvPr/>
        </p:nvGraphicFramePr>
        <p:xfrm>
          <a:off x="2182680" y="1752480"/>
          <a:ext cx="1306800" cy="114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2680" y="1752480"/>
                    <a:ext cx="13068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0" name="Object 14"/>
          <p:cNvGraphicFramePr/>
          <p:nvPr/>
        </p:nvGraphicFramePr>
        <p:xfrm>
          <a:off x="2182680" y="4038480"/>
          <a:ext cx="1474920" cy="1141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82680" y="4038480"/>
                    <a:ext cx="14749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2" name="Object 15"/>
          <p:cNvGraphicFramePr/>
          <p:nvPr/>
        </p:nvGraphicFramePr>
        <p:xfrm>
          <a:off x="2259000" y="5410080"/>
          <a:ext cx="133812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3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59000" y="5410080"/>
                    <a:ext cx="1338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16"/>
          <p:cNvGraphicFramePr/>
          <p:nvPr/>
        </p:nvGraphicFramePr>
        <p:xfrm>
          <a:off x="2252520" y="2889360"/>
          <a:ext cx="1306800" cy="114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52520" y="2889360"/>
                    <a:ext cx="13068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6" name="Oval 17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"/>
          <p:cNvSpPr/>
          <p:nvPr/>
        </p:nvSpPr>
        <p:spPr>
          <a:xfrm>
            <a:off x="1371600" y="763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reen’s Catering charges $150 for set up plus $12 per person for parties under 100 people. Jackson’s Catering charges $18 per person for parties under 100 people. For what size party is Jackson’s a better deal? Assume that the party will be under 100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1447920" y="3244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Parties under 2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72" name="Text Box 7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Parties under 4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9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arties under 25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0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Parties under 5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5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1371600" y="763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reen’s Catering charges $150 for set up plus $12 per person for parties under 100 people. Jackson’s Catering charges $18 per person for parties under 100 people. For what size party is Jackson’s a better deal? Assume that the party will be under 100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1447920" y="3244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Parties under 2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82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Parties under 4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arties under 25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Parties under 5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5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Oval 10"/>
          <p:cNvSpPr/>
          <p:nvPr/>
        </p:nvSpPr>
        <p:spPr>
          <a:xfrm>
            <a:off x="1397160" y="424188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3"/>
          <p:cNvSpPr/>
          <p:nvPr/>
        </p:nvSpPr>
        <p:spPr>
          <a:xfrm>
            <a:off x="1371600" y="76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domain and range of the function represented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4"/>
          <p:cNvSpPr/>
          <p:nvPr/>
        </p:nvSpPr>
        <p:spPr>
          <a:xfrm>
            <a:off x="1447920" y="3244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Domain [-4,3]; Range [-5,4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Domain [-5,4]; Range [-4,3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Domain [4,5]; Range [3,4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Domain [0,4]; Range [0,3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8" name="Picture 4" descr="http://03.edu-cdn.com/files/static/mcgrawhill-images/9780071439275/f0044-02.jpg"/>
          <p:cNvPicPr/>
          <p:nvPr/>
        </p:nvPicPr>
        <p:blipFill>
          <a:blip r:embed="rId4"/>
          <a:srcRect l="0" t="0" r="25528" b="15234"/>
          <a:stretch/>
        </p:blipFill>
        <p:spPr>
          <a:xfrm>
            <a:off x="6095880" y="762120"/>
            <a:ext cx="23623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1371600" y="76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domain and range of the function represented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1447920" y="3244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Domain [-4,3]; Range [-5,4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Domain [-5,4]; Range [-4,3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Domain [4,5]; Range [3,4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Domain [0,4]; Range [0,3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7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Oval 10"/>
          <p:cNvSpPr/>
          <p:nvPr/>
        </p:nvSpPr>
        <p:spPr>
          <a:xfrm>
            <a:off x="1371600" y="51814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4" descr="http://03.edu-cdn.com/files/static/mcgrawhill-images/9780071439275/f0044-02.jpg"/>
          <p:cNvPicPr/>
          <p:nvPr/>
        </p:nvPicPr>
        <p:blipFill>
          <a:blip r:embed="rId4"/>
          <a:srcRect l="0" t="0" r="25528" b="15234"/>
          <a:stretch/>
        </p:blipFill>
        <p:spPr>
          <a:xfrm>
            <a:off x="6095880" y="762120"/>
            <a:ext cx="23623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371600" y="76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verage rate of change from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4"/>
          <p:cNvSpPr/>
          <p:nvPr/>
        </p:nvSpPr>
        <p:spPr>
          <a:xfrm>
            <a:off x="1447920" y="3244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0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16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.1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1.25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60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1" name="Picture 4" descr="http://t2.gstatic.com/images?q=tbn:ANd9GcStXZgO6yPLGbsAh4TlBB3ugwr1HOepk7xRere6RG9DqVIKCbde&amp;t=1"/>
          <p:cNvPicPr/>
          <p:nvPr/>
        </p:nvPicPr>
        <p:blipFill>
          <a:blip r:embed="rId4"/>
          <a:stretch/>
        </p:blipFill>
        <p:spPr>
          <a:xfrm>
            <a:off x="5105520" y="838080"/>
            <a:ext cx="2933640" cy="2328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1523880" y="152280"/>
            <a:ext cx="762012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table shows data for a sample of 6 used cars of a particular make and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data to determine a linear function that best fits the data (round coefficients to 4 decimal pl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bought a car that was 5 years old, how much would you expect it to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ar of this make and model cost $4750, how old would you expect it to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rcRect l="35570" t="54702" r="34961" b="24267"/>
          <a:stretch/>
        </p:blipFill>
        <p:spPr>
          <a:xfrm>
            <a:off x="3809880" y="990720"/>
            <a:ext cx="3978360" cy="2057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"/>
          <p:cNvSpPr/>
          <p:nvPr/>
        </p:nvSpPr>
        <p:spPr>
          <a:xfrm>
            <a:off x="1371600" y="76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verage rate of change from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1447920" y="3244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0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.1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1.25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60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" name="Oval 10"/>
          <p:cNvSpPr/>
          <p:nvPr/>
        </p:nvSpPr>
        <p:spPr>
          <a:xfrm>
            <a:off x="1371600" y="3429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Picture 4" descr="http://t2.gstatic.com/images?q=tbn:ANd9GcStXZgO6yPLGbsAh4TlBB3ugwr1HOepk7xRere6RG9DqVIKCbde&amp;t=1"/>
          <p:cNvPicPr/>
          <p:nvPr/>
        </p:nvPicPr>
        <p:blipFill>
          <a:blip r:embed="rId4"/>
          <a:stretch/>
        </p:blipFill>
        <p:spPr>
          <a:xfrm>
            <a:off x="5105520" y="838080"/>
            <a:ext cx="2933640" cy="2328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47920" y="1568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{(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), (6, 3), (5, 4), (2, 0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1447920" y="4006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{(3, –4), (8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, (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, (2, 4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447920" y="2787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{(0, 1), (1, 2),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, (0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447920" y="5226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{(2, 4), (5, 8), (5, 3), (7, 6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523880" y="196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which relation is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447920" y="1568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{(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), (6, 3), (5, 4), (2, 0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1447920" y="4006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{(3, –4), (8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, (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, (2, 4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447920" y="2787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{(0, 1), (1, 2),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, (0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447920" y="5226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{(2, 4), (5, 8), (5, 3), (7, 6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1523880" y="196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which relation is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1371600" y="4159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beasoa</cp:lastModifiedBy>
  <dcterms:modified xsi:type="dcterms:W3CDTF">2012-09-06T19:27:15Z</dcterms:modified>
  <cp:revision>244</cp:revision>
  <dc:subject/>
  <dc:title>No Slide Title</dc:title>
</cp:coreProperties>
</file>